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2D6-F70B-4907-8A8A-A6757684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0D0E-C37A-4829-A011-B6B4AFEF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516C-ED75-4EE0-933E-980C39F2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B349-E6FD-451F-9F8F-80551B68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792B-040D-4C34-A23F-7F92B9E3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4981-C31B-4182-A5F5-664543F1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CB43-EE0D-4761-A641-CBCF39C5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7A90-7FAB-4E4F-96A3-CB8EF7A5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43EE-77C4-4D2D-9A11-6EA460A3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CE9F-D449-4A4D-B96C-8FA1C20C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6A2B-C7EF-4C6C-B746-562A4858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1E5E-257B-4D7B-A085-2A944371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62E0-423A-448D-AA59-8345FDA1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524C-6DD7-469D-9D86-22DDA3FF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4549-52DB-4E97-A7F7-ED9BAA32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E999-2D6C-44E1-ADF6-4CB22D5E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DF6B-9CA7-4671-90E5-E1970706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C57F7-0ACB-476D-B284-137E621B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135F1-8A46-466D-AFB6-25705E93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0E76C-75D1-40C5-997B-C2EEFFBE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0F08D-DE84-47B2-924E-ADC35792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BB43C-A5A4-4E02-BB2B-162436E9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5FC1-2F26-46BC-AB2B-7AFE821A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8C74E-8C08-4264-96DF-00EDAB71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31C5E-7CA1-4A74-8F33-154A6037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4F85F-25C0-4AFF-89CF-50BDA77F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C3B39-7435-4E8D-9EB2-AD9F4344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55795-3189-476A-BC26-82EC2C87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F14E3-26E5-47CB-AEA0-3CAE5222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318EC-ED63-4751-9564-BFD0B5D5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E1465-1EEC-4921-A286-C10E23A1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88A72-A4E9-48E0-83D8-BE406A1E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BE96C-BE1A-48EF-8F98-1544640C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AF33-295D-42AC-99D9-2899918C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1875F-055A-45F4-854D-E25DA7D7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B6D1C-A2D4-4A4C-BEBE-AE7F2DC3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63903-F05E-4D2F-8CDA-BB8DE940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A47DB-CDCB-45AD-A032-F5DEB25F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3DA1F-76ED-4FFB-BBDA-1ABD8D18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5E93F-3EB8-4408-A1E6-52152242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9C50D-908E-49B7-93FE-6DBA3E7E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39C54-F688-40A0-B6A0-318BDE53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5ACD5-D197-4FB9-B713-7D3758ED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7ED-693B-4D45-8829-6A1517A7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AB10-EBFC-4022-84A0-28BC347F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4C16-F8D4-4A72-B3DF-7535ADF0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229E-2ADA-47AF-B4D8-D357115A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1FF-B74D-408A-9FAF-3463535A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5BA5-AF05-4187-B68D-49137FDFD13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1640-E553-4321-94CA-D0BBFD00E2E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FF2D-E045-4EFB-80A6-CAC48F9A6AB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E456-6066-4DE7-9AAA-F8A853EA9AC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sportal.ru/nachalnaya-shkola/vospitatelnaya-rabota/prezentatsiya-beseda-o-tolerantnosti-dlya-uchashchikhsya-2-k" TargetMode="External"/><Relationship Id="rId2" Type="http://schemas.openxmlformats.org/officeDocument/2006/relationships/hyperlink" Target="http://images.yandex.ru/yandsearch?text=&#1082;&#1072;&#1088;&#1090;&#1080;&#1085;&#1082;&#1080;%20&#1076;&#1088;&#1091;&#1078;&#1073;&#1072;&amp;stype=image&amp;lr=47&amp;noreask=1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ahoma"/>
              </a:rPr>
              <a:t>Классный час «Поговорим о толерантности»</a:t>
            </a: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2916360" y="5084640"/>
            <a:ext cx="59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Автор: Учитель начальных классов МБОУ СОШ № 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г. Нижнего Новг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Кулькова Светлана Андр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002 Улыбка.mp3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1110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"/>
          <p:cNvPicPr/>
          <p:nvPr/>
        </p:nvPicPr>
        <p:blipFill>
          <a:blip r:embed="rId1"/>
          <a:stretch/>
        </p:blipFill>
        <p:spPr>
          <a:xfrm>
            <a:off x="971640" y="0"/>
            <a:ext cx="711684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5753160" cy="38289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"/>
          <p:cNvSpPr/>
          <p:nvPr/>
        </p:nvSpPr>
        <p:spPr>
          <a:xfrm>
            <a:off x="468360" y="4437000"/>
            <a:ext cx="79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Мы все разны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то-то слушает классическую музыку, а кто-то тяжелый рок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ому-то нравится играть в футбол, а кому-то читать книг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то-то любит смотреть кино, а кто-то рисует чудесные картин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о все мы особенные! И каждый из нас достоин уваже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475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Arial Black"/>
              </a:rPr>
              <a:t>Будь не таким, как другие, и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Arial Black"/>
              </a:rPr>
              <a:t>позволь другим быть другим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rebuchet MS"/>
              </a:rPr>
              <a:t>Хенрик Ягодзински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Рисунок 1" descr=""/>
          <p:cNvPicPr/>
          <p:nvPr/>
        </p:nvPicPr>
        <p:blipFill>
          <a:blip r:embed="rId1"/>
          <a:stretch/>
        </p:blipFill>
        <p:spPr>
          <a:xfrm>
            <a:off x="1692360" y="2271600"/>
            <a:ext cx="5832360" cy="4375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31760" y="115920"/>
            <a:ext cx="8815320" cy="15843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" descr=""/>
          <p:cNvPicPr/>
          <p:nvPr/>
        </p:nvPicPr>
        <p:blipFill>
          <a:blip r:embed="rId2"/>
          <a:stretch/>
        </p:blipFill>
        <p:spPr>
          <a:xfrm>
            <a:off x="366840" y="2276640"/>
            <a:ext cx="4589280" cy="37447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2" descr=""/>
          <p:cNvPicPr/>
          <p:nvPr/>
        </p:nvPicPr>
        <p:blipFill>
          <a:blip r:embed="rId3"/>
          <a:stretch/>
        </p:blipFill>
        <p:spPr>
          <a:xfrm>
            <a:off x="5292720" y="1484280"/>
            <a:ext cx="3294000" cy="4942080"/>
          </a:xfrm>
          <a:prstGeom prst="rect">
            <a:avLst/>
          </a:prstGeom>
          <a:ln w="0">
            <a:noFill/>
          </a:ln>
        </p:spPr>
      </p:pic>
      <p:pic>
        <p:nvPicPr>
          <p:cNvPr id="235" name="123 Дорогою добра.mp3" descr=""/>
          <p:cNvPicPr/>
          <p:nvPr/>
        </p:nvPicPr>
        <p:blipFill>
          <a:blip r:embed="rId4"/>
          <a:stretch/>
        </p:blipFill>
        <p:spPr>
          <a:xfrm>
            <a:off x="61920" y="250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28538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3" descr=""/>
          <p:cNvPicPr/>
          <p:nvPr/>
        </p:nvPicPr>
        <p:blipFill>
          <a:blip r:embed="rId1"/>
          <a:stretch/>
        </p:blipFill>
        <p:spPr>
          <a:xfrm>
            <a:off x="189000" y="42840"/>
            <a:ext cx="8839080" cy="16146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8" descr=""/>
          <p:cNvPicPr/>
          <p:nvPr/>
        </p:nvPicPr>
        <p:blipFill>
          <a:blip r:embed="rId2"/>
          <a:stretch/>
        </p:blipFill>
        <p:spPr>
          <a:xfrm>
            <a:off x="90360" y="1184400"/>
            <a:ext cx="4716720" cy="35398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1" descr=""/>
          <p:cNvPicPr/>
          <p:nvPr/>
        </p:nvPicPr>
        <p:blipFill>
          <a:blip r:embed="rId3"/>
          <a:stretch/>
        </p:blipFill>
        <p:spPr>
          <a:xfrm>
            <a:off x="3995640" y="3429000"/>
            <a:ext cx="5060880" cy="3375000"/>
          </a:xfrm>
          <a:prstGeom prst="rect">
            <a:avLst/>
          </a:prstGeom>
          <a:ln w="0">
            <a:noFill/>
          </a:ln>
        </p:spPr>
      </p:pic>
      <p:pic>
        <p:nvPicPr>
          <p:cNvPr id="239" name="045 Если добрый ты.mp3" descr=""/>
          <p:cNvPicPr/>
          <p:nvPr/>
        </p:nvPicPr>
        <p:blipFill>
          <a:blip r:embed="rId4"/>
          <a:stretch/>
        </p:blipFill>
        <p:spPr>
          <a:xfrm>
            <a:off x="90360" y="5745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95363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Gadkiy_utenok_[tfile.ru].avi" descr=""/>
          <p:cNvPicPr/>
          <p:nvPr/>
        </p:nvPicPr>
        <p:blipFill>
          <a:blip r:embed="rId1"/>
          <a:stretch/>
        </p:blipFill>
        <p:spPr>
          <a:xfrm>
            <a:off x="-25560" y="0"/>
            <a:ext cx="96822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Trebuchet MS"/>
              </a:rPr>
              <a:t>Ребята, относитесь друг к другу терпимее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rebuchet MS"/>
              </a:rPr>
              <a:t>Будете толерантны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Рисунок 1" descr=""/>
          <p:cNvPicPr/>
          <p:nvPr/>
        </p:nvPicPr>
        <p:blipFill>
          <a:blip r:embed="rId1"/>
          <a:stretch/>
        </p:blipFill>
        <p:spPr>
          <a:xfrm>
            <a:off x="1763640" y="3071880"/>
            <a:ext cx="5400720" cy="3595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50920" y="117360"/>
            <a:ext cx="8713800" cy="62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оцессе создания презентации были использован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фимова Галина Николаевна. Презентация к классному часу по толеран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00"/>
                </a:solidFill>
                <a:uFillTx/>
                <a:latin typeface="Arial"/>
                <a:hlinkClick r:id="rId1"/>
              </a:rPr>
              <a:t>http://nsportal.ru/nachalnaya-shkola/vospitatelnaya-rabota/prezentatsiya-beseda-o-tolerantnosti-dlya-uchashchikhsya-2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ртинк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00"/>
                </a:solidFill>
                <a:uFillTx/>
                <a:latin typeface="Arial"/>
                <a:hlinkClick r:id="rId2"/>
              </a:rPr>
              <a:t>http://images.yandex.ru/yandsearch?text=%D0%BA%D0%B0%D1%80%D1%82%D0%B8%D0%BD%D0%BA%D0%B8%20%D0%B4%D1%80%D1%83%D0%B6%D0%B1%D0%B0&amp;stype=image&amp;lr=47&amp;noreas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/yandsearch?text=%D0%BA%D0%B0%D1%80%D1%82%D0%B8%D0%BD%D0%BA%D0%B8%20%D0%B1%D0%B5%D0%BB%D0%B0%D1%8F%20%D0%B2%D0%BE%D1%80%D0%BE%D0%BD%D0%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/yandsearch?text=%D0%BA%D0%B0%D1%80%D1%82%D0%B8%D0%BD%D0%BA%D0%B8%20%D1%80%D0%B0%D0%B7%D0%BD%D1%8B%D0%B5%20%D0%BB%D1%8E%D0%B4%D0%B8%20%D0%B2%D0%BC%D0%B5%D1%81%D1%82%D0%B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/yandsearch?text=%D0%BA%D0%B0%D1%80%D1%82%D0%B8%D0%BD%D0%BA%D0%B8%20%D0%BD%D0%B0%D1%80%D0%BE%D0%B4%D1%8B%20%D1%80%D0%BE%D1%81%D1%81%D0%B8%D0%B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324000" y="260280"/>
            <a:ext cx="8820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хаил Каменецкий. М/ф «Ежик должен быть колючим?» Союзмультфильм, 199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  Владимир Дегтярев. М/ф «Гадкий утенок». Союзмультфильм, 1956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  Минков Н., Энтин Ю. Песня «Дорогою добр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  Пляцковский М., Савельев Б. Песня «Если добрый ты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   Пляцковский М., Шаинский В. Песня «Улыб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50560" y="765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 Black"/>
              </a:rPr>
              <a:t>16 ноября – Международный день толерантности.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 Black"/>
              </a:rPr>
              <a:t>Толерантность – это уважение, принятие и понимание многообразия мира.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6836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Arial Black"/>
              </a:rPr>
              <a:t>Толерантность – это способность признавать мнение людей, которые думают не так, как мы.  Мы допускаем, что кто-то может думать иначе, или действовать иначе, нежели ты сам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169560" algn="ctr"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rebuchet MS"/>
              </a:rPr>
              <a:t>Толерантность</a:t>
            </a:r>
            <a:r>
              <a:rPr b="1" lang="ru-RU" sz="4400" spc="-1" strike="noStrike">
                <a:solidFill>
                  <a:srgbClr val="ff3300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rebuchet MS"/>
              </a:rPr>
              <a:t>– </a:t>
            </a:r>
            <a:r>
              <a:rPr b="1" lang="ru-RU" sz="4400" spc="-1" strike="noStrike">
                <a:solidFill>
                  <a:srgbClr val="ff3300"/>
                </a:solidFill>
                <a:latin typeface="Trebuchet MS"/>
              </a:rPr>
              <a:t>это благосклонность и уважение к  другому.</a:t>
            </a:r>
            <a:r>
              <a:rPr b="0" lang="ru-RU" sz="2200" spc="-1" strike="noStrike">
                <a:solidFill>
                  <a:srgbClr val="ff33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Ezhik_dolzhen_byt_kolyu4im_1990.avi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09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Объект 3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235400" cy="54738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4932360" y="1916280"/>
            <a:ext cx="396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  <a:ea typeface="Aharoni"/>
              </a:rPr>
              <a:t>Белая ворона – это человек, который сильно выделяется в коллективе (толп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12560" y="34092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00000"/>
                </a:solidFill>
                <a:latin typeface="Arial Black"/>
              </a:rPr>
              <a:t>Мы разные, но мы - вместе!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2255760" y="2108160"/>
            <a:ext cx="4619880" cy="4594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"/>
          <p:cNvPicPr/>
          <p:nvPr/>
        </p:nvPicPr>
        <p:blipFill>
          <a:blip r:embed="rId1"/>
          <a:stretch/>
        </p:blipFill>
        <p:spPr>
          <a:xfrm>
            <a:off x="0" y="-4680"/>
            <a:ext cx="9137520" cy="6862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2" descr=""/>
          <p:cNvPicPr/>
          <p:nvPr/>
        </p:nvPicPr>
        <p:blipFill>
          <a:blip r:embed="rId1"/>
          <a:stretch/>
        </p:blipFill>
        <p:spPr>
          <a:xfrm>
            <a:off x="1187280" y="-4680"/>
            <a:ext cx="7002720" cy="6862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6:59:20Z</dcterms:created>
  <dc:creator>EGN</dc:creator>
  <dc:description/>
  <dc:language>en-US</dc:language>
  <cp:lastModifiedBy>нн</cp:lastModifiedBy>
  <dcterms:modified xsi:type="dcterms:W3CDTF">2012-11-30T17:28:46Z</dcterms:modified>
  <cp:revision>23</cp:revision>
  <dc:subject/>
  <dc:title>Беседа о толерантности для учащихся 2 класса.</dc:title>
</cp:coreProperties>
</file>